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5.png" ContentType="image/png"/>
  <Override PartName="/ppt/media/image2.wmf" ContentType="image/x-wmf"/>
  <Override PartName="/ppt/media/image25.wmf" ContentType="image/x-wmf"/>
  <Override PartName="/ppt/media/image15.png" ContentType="image/png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2C3-D22E-49EA-85E2-BBB448EE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66880" y="425556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9B9-707D-46A1-9B82-34721D9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2224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CA-B04F-4F61-BC68-343E1458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900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112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6688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1900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112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AD6-0FB5-4F94-9040-07A7F06A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C44-0F0C-4BC5-9DE7-4F6FB301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6880" y="274284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0DB-EBC8-491E-BBC9-A52E0DDA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5FEB-51F5-482D-B42A-3B2EDC36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66D6-581D-4E9C-BFB2-B8E8915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2F3-7F4E-4837-8175-0C6459D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560" y="609480"/>
            <a:ext cx="57150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3D0E-6FC2-4295-B209-20B67CDB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4D9-86F8-4B36-A890-552B944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666880" y="274284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0A8-BA95-49CF-A305-43D8832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2224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5E1-3905-49FC-BC75-E2004FB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ECD7-DD39-4963-95DA-1D38282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6880" y="425556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AE1D-AB44-4800-8023-381669F7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2224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96CF-6D50-47EB-9B85-B9500F54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00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1120" y="274284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688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1900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1120" y="4255560"/>
            <a:ext cx="1668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0B37-72B1-4D03-ACD6-F6397175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A13-6F3B-45BA-92D9-83C0DF6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BEE-B323-45CC-8217-E8CADB6A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65F-1FD3-46B7-8E92-AF17C76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609480"/>
            <a:ext cx="57150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E4E-E351-4AFC-B533-5FC2E97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3B8-7280-4E54-B704-FD34F3D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22240" y="425556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791-D504-4CBE-A873-45D83FA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88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22240" y="2742840"/>
            <a:ext cx="25286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6880" y="4255560"/>
            <a:ext cx="51818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06E-A9E7-461F-96B6-814B295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18960" y="1905120"/>
            <a:ext cx="7124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-36864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-19404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16440" indent="-1846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3000" indent="-1846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-185040">
              <a:spcBef>
                <a:spcPts val="799"/>
              </a:spcBef>
              <a:buClr>
                <a:srgbClr val="ff99cc"/>
              </a:buClr>
              <a:buSzPct val="13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920" indent="-185040">
              <a:spcBef>
                <a:spcPts val="799"/>
              </a:spcBef>
              <a:buClr>
                <a:srgbClr val="eaeaea"/>
              </a:buClr>
              <a:buSzPct val="13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920" indent="-185040">
              <a:spcBef>
                <a:spcPts val="799"/>
              </a:spcBef>
              <a:buClr>
                <a:srgbClr val="eaeaea"/>
              </a:buClr>
              <a:buSzPct val="13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687-D5BD-4496-BD64-9EA06874DA7F}" type="slidenum"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2133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24680" y="1905120"/>
            <a:ext cx="1219320" cy="449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7960" cy="3962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924680" y="2743200"/>
            <a:ext cx="12193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F84-C8C4-4929-AB1C-FB2FF9DF8A1A}" type="slidenum"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09440" algn="ctr">
              <a:spcBef>
                <a:spcPts val="700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198720" algn="ctr">
              <a:spcBef>
                <a:spcPts val="601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44720" indent="484200" algn="ctr">
              <a:spcBef>
                <a:spcPts val="4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3080" indent="761760" algn="ctr">
              <a:spcBef>
                <a:spcPts val="499"/>
              </a:spcBef>
              <a:buClr>
                <a:srgbClr val="ff99cc"/>
              </a:buClr>
              <a:buSzPct val="130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43080" indent="761760">
              <a:spcBef>
                <a:spcPts val="499"/>
              </a:spcBef>
              <a:buClr>
                <a:srgbClr val="eaeaea"/>
              </a:buClr>
              <a:buSzPct val="13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43080" indent="761760">
              <a:spcBef>
                <a:spcPts val="499"/>
              </a:spcBef>
              <a:buClr>
                <a:srgbClr val="eaeaea"/>
              </a:buClr>
              <a:buSzPct val="13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280" y="145584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HGP創英角ｺﾞｼｯｸUB"/>
              </a:rPr>
              <a:t>情報科における</a:t>
            </a:r>
            <a:br>
              <a:rPr sz="4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HGP創英角ｺﾞｼｯｸUB"/>
              </a:rPr>
              <a:t>「指導と評価の一体化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92000" y="3125520"/>
            <a:ext cx="615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月情報教育研究助成　グループ代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神奈川県立横浜清陵総合高等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諭　五十嵐　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4395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050827</a:t>
            </a: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　関東地区情報教育研究会合同研究大会　発表資料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32640" cy="2805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評価資料点の蓄積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6805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評定へのロジック（２）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評価資料点の合計より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2920" y="2421000"/>
            <a:ext cx="8893080" cy="417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776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11280" y="3645000"/>
            <a:ext cx="360360" cy="1655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655640"/>
              <a:gd name="textAreaBottom" fmla="*/ 1638360 h 1655640"/>
            </a:gdLst>
            <a:ahLst/>
            <a:rect l="textAreaLeft" t="textAreaTop" r="textAreaRight" b="textAreaBottom"/>
            <a:pathLst>
              <a:path w="21600" h="99162">
                <a:moveTo>
                  <a:pt x="3600" y="0"/>
                </a:moveTo>
                <a:arcTo wR="3600" hR="3600" stAng="16200000" swAng="-5400000"/>
                <a:lnTo>
                  <a:pt x="0" y="95562"/>
                </a:lnTo>
                <a:arcTo wR="3600" hR="3600" stAng="10800000" swAng="-5400000"/>
                <a:lnTo>
                  <a:pt x="18000" y="99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3645000"/>
            <a:ext cx="360360" cy="1655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655640"/>
              <a:gd name="textAreaBottom" fmla="*/ 1638360 h 1655640"/>
            </a:gdLst>
            <a:ahLst/>
            <a:rect l="textAreaLeft" t="textAreaTop" r="textAreaRight" b="textAreaBottom"/>
            <a:pathLst>
              <a:path w="21600" h="99162">
                <a:moveTo>
                  <a:pt x="3600" y="0"/>
                </a:moveTo>
                <a:arcTo wR="3600" hR="3600" stAng="16200000" swAng="-5400000"/>
                <a:lnTo>
                  <a:pt x="0" y="95562"/>
                </a:lnTo>
                <a:arcTo wR="3600" hR="3600" stAng="10800000" swAng="-5400000"/>
                <a:lnTo>
                  <a:pt x="18000" y="99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645000"/>
            <a:ext cx="360360" cy="1655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655640"/>
              <a:gd name="textAreaBottom" fmla="*/ 1638360 h 1655640"/>
            </a:gdLst>
            <a:ahLst/>
            <a:rect l="textAreaLeft" t="textAreaTop" r="textAreaRight" b="textAreaBottom"/>
            <a:pathLst>
              <a:path w="21600" h="99162">
                <a:moveTo>
                  <a:pt x="3600" y="0"/>
                </a:moveTo>
                <a:arcTo wR="3600" hR="3600" stAng="16200000" swAng="-5400000"/>
                <a:lnTo>
                  <a:pt x="0" y="95562"/>
                </a:lnTo>
                <a:arcTo wR="3600" hR="3600" stAng="10800000" swAng="-5400000"/>
                <a:lnTo>
                  <a:pt x="18000" y="99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3645000"/>
            <a:ext cx="360360" cy="1655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655640"/>
              <a:gd name="textAreaBottom" fmla="*/ 1638360 h 1655640"/>
            </a:gdLst>
            <a:ahLst/>
            <a:rect l="textAreaLeft" t="textAreaTop" r="textAreaRight" b="textAreaBottom"/>
            <a:pathLst>
              <a:path w="21600" h="99162">
                <a:moveTo>
                  <a:pt x="3600" y="0"/>
                </a:moveTo>
                <a:arcTo wR="3600" hR="3600" stAng="16200000" swAng="-5400000"/>
                <a:lnTo>
                  <a:pt x="0" y="95562"/>
                </a:lnTo>
                <a:arcTo wR="3600" hR="3600" stAng="10800000" swAng="-5400000"/>
                <a:lnTo>
                  <a:pt x="18000" y="99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28000" y="3645000"/>
            <a:ext cx="360360" cy="1655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655640"/>
              <a:gd name="textAreaBottom" fmla="*/ 1638360 h 1655640"/>
            </a:gdLst>
            <a:ahLst/>
            <a:rect l="textAreaLeft" t="textAreaTop" r="textAreaRight" b="textAreaBottom"/>
            <a:pathLst>
              <a:path w="21600" h="99162">
                <a:moveTo>
                  <a:pt x="3600" y="0"/>
                </a:moveTo>
                <a:arcTo wR="3600" hR="3600" stAng="16200000" swAng="-5400000"/>
                <a:lnTo>
                  <a:pt x="0" y="95562"/>
                </a:lnTo>
                <a:arcTo wR="3600" hR="3600" stAng="10800000" swAng="-5400000"/>
                <a:lnTo>
                  <a:pt x="18000" y="99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987640" cy="1224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211880" y="112536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横浜清陵総合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小島淳子先生考案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のフォーマット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生徒による授業評価（提案）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12476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記名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単元毎に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単元別シラバス</a:t>
            </a:r>
            <a:r>
              <a:rPr b="0" lang="zh-CN" sz="2800" spc="-1" strike="noStrike">
                <a:solidFill>
                  <a:srgbClr val="000054"/>
                </a:solidFill>
                <a:latin typeface="Arial"/>
              </a:rPr>
              <a:t>に対する評価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徒の自己評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も同時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科目独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項目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科目統一の項目では測りき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由記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項目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師側から気づかない指摘が得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記名式ならば、咀嚼して判断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結果は必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フィードバッ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85080" y="6081840"/>
            <a:ext cx="1258920" cy="776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2484360" cy="302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093080" y="3363840"/>
            <a:ext cx="196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神奈川総合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吉田史明先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湘南台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諏訪間雅行先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六ッ川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小野尚登先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の先行実施研究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担当科目の事例を元に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124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は異なるが同一の内容の科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「文書デザイン」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１７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門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授業評価と自己評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ード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評価の結果の推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22320" y="189000"/>
            <a:ext cx="5486400" cy="6591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020000" y="855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平成</a:t>
            </a:r>
            <a:r>
              <a:rPr b="0" lang="en-US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17</a:t>
            </a: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年度前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単元１終了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03280" y="898560"/>
            <a:ext cx="6056280" cy="5483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20000" y="855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平成</a:t>
            </a:r>
            <a:r>
              <a:rPr b="0" lang="en-US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17</a:t>
            </a: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年度前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単元１終了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6920" y="380520"/>
            <a:ext cx="748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授業評価と自己評価の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フィードバック例（授業改善宣言）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3600720" cy="2063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638880" cy="2085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4360" y="1626840"/>
            <a:ext cx="77770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（１）授業評価のフィードバック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『進み方は速かったですか』という質問の回答が割れています。遅刻や欠席の多かった生徒が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「そう思う」と回答するのは問題ですが，授業では次のような改善を行います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①課題作品例を示して作業時間の理解を深め，計画的な時間配分を指導する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②ラフスケッチの提出など中間成果物のチェックにより，作業の進捗状況を揃える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③課題提出日を明確にし，止むを得ない欠席分は放課後に回復する機会を設ける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（２）自己評価のフィードバック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『実習時には，操作する時と説明を聞く時の区別ができましたか』という質問の回答が幅広く分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Century"/>
                <a:ea typeface="ＭＳ Ｐ明朝"/>
              </a:rPr>
              <a:t>　　れています。</a:t>
            </a:r>
            <a:r>
              <a:rPr b="0" lang="ja-JP" sz="1400" spc="-1" strike="noStrike">
                <a:solidFill>
                  <a:srgbClr val="000054"/>
                </a:solidFill>
                <a:latin typeface="ＭＳ Ｐゴシック"/>
                <a:ea typeface="ＭＳ Ｐゴシック"/>
              </a:rPr>
              <a:t>後期は細かい操作を教えることが減りますが，説明と実習の区別をはっきりす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ＭＳ Ｐゴシック"/>
                <a:ea typeface="ＭＳ Ｐゴシック"/>
              </a:rPr>
              <a:t>　　ために，次のような改善を行います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ＭＳ Ｐゴシック"/>
                <a:ea typeface="ＭＳ Ｐゴシック"/>
              </a:rPr>
              <a:t>　　①プリント資料を充実させて，最初に単元の目的と課題の説明を完結する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54"/>
                </a:solidFill>
                <a:latin typeface="ＭＳ Ｐゴシック"/>
                <a:ea typeface="ＭＳ Ｐゴシック"/>
              </a:rPr>
              <a:t>　　②実習時間をまとめて確保し，個別対応の指導を充実する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1658880" y="34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6078600"/>
            <a:ext cx="1249200" cy="779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26160" y="6448320"/>
            <a:ext cx="30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平成</a:t>
            </a:r>
            <a:r>
              <a:rPr b="0" lang="en-US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16</a:t>
            </a: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年度　前期末のフィードバック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DC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サイクル実施による授業評価の推移（抜粋）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2133720"/>
            <a:ext cx="31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進み方は速かったですか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176720" cy="335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43280" y="2060640"/>
            <a:ext cx="33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課題では、順を追ってのレベル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設定が適当でしたか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176720" cy="335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8000" y="6381720"/>
            <a:ext cx="8064360" cy="368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  <a:ea typeface="ＭＳ Ｐゴシック"/>
              </a:rPr>
              <a:t>◎</a:t>
            </a:r>
            <a:r>
              <a:rPr b="0" lang="zh-CN" sz="1800" spc="-1" strike="noStrike">
                <a:solidFill>
                  <a:srgbClr val="000054"/>
                </a:solidFill>
                <a:latin typeface="Arial"/>
                <a:ea typeface="ＭＳ Ｐゴシック"/>
              </a:rPr>
              <a:t>そう思う　　○少し思う　　□どちらでもない　　▽あまり思わない　　▼思わな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885080" y="6081840"/>
            <a:ext cx="12589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DC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サイクル実施による自己評価の推移（抜粋）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060640"/>
            <a:ext cx="32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積極的に授業に取組み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集中することができましたか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3002040"/>
            <a:ext cx="3938400" cy="3163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0" y="2062080"/>
            <a:ext cx="3887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オブジェクトの配置について理解し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操作ができるようになりましたか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0" y="3002040"/>
            <a:ext cx="3889440" cy="3122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381720"/>
            <a:ext cx="8064360" cy="368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4"/>
                </a:solidFill>
                <a:latin typeface="Arial"/>
                <a:ea typeface="ＭＳ Ｐゴシック"/>
              </a:rPr>
              <a:t>◎</a:t>
            </a:r>
            <a:r>
              <a:rPr b="0" lang="zh-CN" sz="1800" spc="-1" strike="noStrike">
                <a:solidFill>
                  <a:srgbClr val="000054"/>
                </a:solidFill>
                <a:latin typeface="Arial"/>
                <a:ea typeface="ＭＳ Ｐゴシック"/>
              </a:rPr>
              <a:t>そう思う　　○少し思う　　□どちらでもない　　▽あまり思わない　　▼思わな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885080" y="6081840"/>
            <a:ext cx="12589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189000"/>
            <a:ext cx="730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生徒から後輩へのアドバイス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58960" y="1484280"/>
            <a:ext cx="7600680" cy="5013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6078600"/>
            <a:ext cx="1249200" cy="779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900320" y="6448320"/>
            <a:ext cx="28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平成</a:t>
            </a:r>
            <a:r>
              <a:rPr b="0" lang="en-US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16</a:t>
            </a:r>
            <a:r>
              <a:rPr b="0" lang="zh-CN" sz="2000" spc="-1" strike="noStrike">
                <a:solidFill>
                  <a:srgbClr val="00007a"/>
                </a:solidFill>
                <a:latin typeface="Arial Narrow"/>
                <a:ea typeface="ＭＳ Ｐゴシック"/>
              </a:rPr>
              <a:t>年度年度末のアンケートより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観点別学習状況による評価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評価活動の分析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１５）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125880" y="1479600"/>
          <a:ext cx="2892240" cy="505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479600"/>
                    <a:ext cx="289224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395280" y="1916280"/>
            <a:ext cx="2627280" cy="1873080"/>
            <a:chOff x="395280" y="1916280"/>
            <a:chExt cx="2627280" cy="18730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395280" y="1916280"/>
              <a:ext cx="26272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5640" y="220500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54"/>
                  </a:solidFill>
                  <a:latin typeface="Arial Narrow"/>
                  <a:ea typeface="ＭＳ Ｐゴシック"/>
                </a:rPr>
                <a:t>誰のために？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54"/>
                  </a:solidFill>
                  <a:latin typeface="Arial Narrow"/>
                  <a:ea typeface="ＭＳ Ｐゴシック"/>
                </a:rPr>
                <a:t>目的はなに？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5280" y="4005360"/>
            <a:ext cx="2627280" cy="1873080"/>
            <a:chOff x="395280" y="4005360"/>
            <a:chExt cx="2627280" cy="187308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395280" y="4005360"/>
              <a:ext cx="26272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1280" y="4221000"/>
              <a:ext cx="23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54"/>
                  </a:solidFill>
                  <a:latin typeface="Arial Narrow"/>
                  <a:ea typeface="ＭＳ Ｐゴシック"/>
                </a:rPr>
                <a:t>観点別評価から評定への説明責任は？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40360" y="1916280"/>
            <a:ext cx="2627280" cy="1873080"/>
            <a:chOff x="5940360" y="1916280"/>
            <a:chExt cx="2627280" cy="187308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5940360" y="1916280"/>
              <a:ext cx="26272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84720" y="2276640"/>
              <a:ext cx="230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54"/>
                  </a:solidFill>
                  <a:latin typeface="Arial Narrow"/>
                  <a:ea typeface="ＭＳ Ｐゴシック"/>
                </a:rPr>
                <a:t>生徒が学習を振り返る仕組みを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940360" y="4005360"/>
            <a:ext cx="2627280" cy="1873080"/>
            <a:chOff x="5940360" y="4005360"/>
            <a:chExt cx="2627280" cy="1873080"/>
          </a:xfrm>
        </p:grpSpPr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5940360" y="4005360"/>
              <a:ext cx="26272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156360" y="429264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54"/>
                  </a:solidFill>
                  <a:latin typeface="Arial Narrow"/>
                  <a:ea typeface="ＭＳ Ｐゴシック"/>
                </a:rPr>
                <a:t>年間や学期のスパンでは効果が薄い！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40000" y="2997360"/>
            <a:ext cx="4464000" cy="2447640"/>
            <a:chOff x="2340000" y="2997360"/>
            <a:chExt cx="4464000" cy="2447640"/>
          </a:xfrm>
        </p:grpSpPr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2340000" y="2997360"/>
              <a:ext cx="446400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03280" y="2997360"/>
              <a:ext cx="24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  <a:ea typeface="TT-JTCウインS10"/>
                </a:rPr>
                <a:t>単元別シラバス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7280" y="3717720"/>
              <a:ext cx="4033440" cy="14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  <a:ea typeface="HGS平成角ｺﾞｼｯｸ体W9"/>
                </a:rPr>
                <a:t>・学習目標・単元のねらい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  <a:ea typeface="HGS平成角ｺﾞｼｯｸ体W9"/>
                </a:rPr>
                <a:t>・学習プログラ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 Narrow"/>
                  <a:ea typeface="HGS平成角ｺﾞｼｯｸ体W9"/>
                </a:rPr>
                <a:t>・評価項目・評価規準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227640" y="5589720"/>
            <a:ext cx="273708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178760" y="573408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横浜市立東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佐野和夫先生の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先行研究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２．コラボレーション活動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529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メンバー間のコラボレ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発表活動によるコラボレ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198360">
              <a:spcBef>
                <a:spcPts val="700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践事例の広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198360">
              <a:spcBef>
                <a:spcPts val="700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見の収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16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県情報部会研究大会　中間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16.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日本教育情報学会　研究発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16.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「指導と評価の一体化」研修会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17.5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　県情報部会研究大会　研究発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17.8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　情報部会関東地区合同大会　研究発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まとめ・授業改善の要素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124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リキュラム・題材（シラバ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習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習用ノ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授業運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598920" cy="1295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521760" y="479736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中村祐治横浜国大教授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からのアドバイ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HGP創英角ｺﾞｼｯｸUB"/>
              </a:rPr>
              <a:t>ご清聴ありがとうございまし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58560" y="2565000"/>
            <a:ext cx="7885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科における『指導と評価の一体化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Arial"/>
              </a:rPr>
              <a:t>【論文執筆分担者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佐野和夫・大河原広行・石井徳人・小野尚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島淳子・諏訪間雅行・吉田史明・五十嵐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Arial"/>
              </a:rPr>
              <a:t>【研究助言者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村祐治（横浜国立大学講師・前教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村田彰夫（神奈川県立相模原高校校長・部会顧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16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　研究実践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45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テーマ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「指導と評価の一体化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の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227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単元別シラバスを用い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227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例報告を含むコラボレーション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の成果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227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資料を含む論文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１．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DCA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サイクル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1941480"/>
          <a:ext cx="6338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41480"/>
                    <a:ext cx="6338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DC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サイクルの実践報告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775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単元別シラバスのフォーマ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観点別評価・生徒による自己採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果物のポートフォリオで評価するモデ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単元別評価から評定へのロジック（２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徒による授業評価への提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実践による自己評価・授業評価の変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0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77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85080" y="6081840"/>
            <a:ext cx="125892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078600"/>
            <a:ext cx="1249200" cy="77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412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0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観点別評価を自己採点させる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1465200"/>
            <a:ext cx="6480360" cy="5059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77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71640" y="227664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1844640"/>
            <a:ext cx="1224000" cy="460872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4608720"/>
              <a:gd name="textAreaBottom" fmla="*/ 4548960 h 4608720"/>
            </a:gdLst>
            <a:ahLst/>
            <a:rect l="textAreaLeft" t="textAreaTop" r="textAreaRight" b="textAreaBottom"/>
            <a:pathLst>
              <a:path w="21600" h="81313">
                <a:moveTo>
                  <a:pt x="3600" y="0"/>
                </a:moveTo>
                <a:arcTo wR="3600" hR="3600" stAng="16200000" swAng="-5400000"/>
                <a:lnTo>
                  <a:pt x="0" y="77713"/>
                </a:lnTo>
                <a:arcTo wR="3600" hR="3600" stAng="10800000" swAng="-5400000"/>
                <a:lnTo>
                  <a:pt x="18000" y="81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2737080" cy="151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39120" y="450864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横浜市立東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佐野和夫先生の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アイディア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2565360"/>
            <a:ext cx="2412720" cy="79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26370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五十嵐の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アイディア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評価マトリックスの提示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7777080" cy="248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26402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54"/>
                </a:solidFill>
                <a:latin typeface="Arial Narrow"/>
                <a:ea typeface="ＭＳ Ｐゴシック"/>
              </a:rPr>
              <a:t>この単元では、上の①～④の４つの観点に基づき、次の評価マトリックスにより評価を行い、学期末に</a:t>
            </a:r>
            <a:r>
              <a:rPr b="0" lang="en-US" sz="2400" spc="-1" strike="noStrike">
                <a:solidFill>
                  <a:srgbClr val="000054"/>
                </a:solidFill>
                <a:latin typeface="Arial Narrow"/>
                <a:ea typeface="ＭＳ Ｐゴシック"/>
              </a:rPr>
              <a:t>10</a:t>
            </a:r>
            <a:r>
              <a:rPr b="0" lang="zh-CN" sz="2400" spc="-1" strike="noStrike">
                <a:solidFill>
                  <a:srgbClr val="000054"/>
                </a:solidFill>
                <a:latin typeface="Arial Narrow"/>
                <a:ea typeface="ＭＳ Ｐゴシック"/>
              </a:rPr>
              <a:t>段階の評価に総括します。表中の◎は観点の中でより重視するところです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77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084720" y="5805360"/>
            <a:ext cx="3059280" cy="1052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4200" y="580716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横須賀総合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石井徳人先生の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先行実践研究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4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成果物から測る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観点別学習状況の評価のモデル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33360" y="1628640"/>
            <a:ext cx="6794640" cy="461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8" name=""/>
          <p:cNvGrpSpPr/>
          <p:nvPr/>
        </p:nvGrpSpPr>
        <p:grpSpPr>
          <a:xfrm>
            <a:off x="2627280" y="4581360"/>
            <a:ext cx="1871640" cy="804600"/>
            <a:chOff x="2627280" y="4581360"/>
            <a:chExt cx="1871640" cy="80460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2627280" y="4581360"/>
              <a:ext cx="18716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4725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aeaea"/>
                  </a:solidFill>
                  <a:latin typeface="Arial Narrow"/>
                  <a:ea typeface="HGS平成角ｺﾞｼｯｸ体W9"/>
                </a:rPr>
                <a:t>技能・表現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88000" y="3789360"/>
            <a:ext cx="1871640" cy="804600"/>
            <a:chOff x="4788000" y="3789360"/>
            <a:chExt cx="1871640" cy="80460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4788000" y="3789360"/>
              <a:ext cx="18716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513400" y="3933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aeaea"/>
                  </a:solidFill>
                  <a:latin typeface="Arial Narrow"/>
                  <a:ea typeface="HGS平成角ｺﾞｼｯｸ体W9"/>
                </a:rPr>
                <a:t>知識・理解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0" y="3068640"/>
            <a:ext cx="1871640" cy="804600"/>
            <a:chOff x="0" y="3068640"/>
            <a:chExt cx="1871640" cy="80460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3068640"/>
              <a:ext cx="18716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5400" y="32130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aeaea"/>
                  </a:solidFill>
                  <a:latin typeface="Arial Narrow"/>
                  <a:ea typeface="HGS平成角ｺﾞｼｯｸ体W9"/>
                </a:rPr>
                <a:t>思考・判断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71640" y="6237360"/>
            <a:ext cx="6553080" cy="417600"/>
            <a:chOff x="971640" y="6237360"/>
            <a:chExt cx="6553080" cy="41760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971640" y="6294600"/>
              <a:ext cx="65530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56000" y="6237360"/>
              <a:ext cx="274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aeaea"/>
                  </a:solidFill>
                  <a:latin typeface="Arial Narrow"/>
                  <a:ea typeface="HGS平成角ｺﾞｼｯｸ体W9"/>
                </a:rPr>
                <a:t>関心・意欲・態度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885080" y="0"/>
            <a:ext cx="12589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評定へのロジック（１）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観点別評価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B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の個数より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628640"/>
          <a:ext cx="882036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820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2781360"/>
            <a:ext cx="2664000" cy="39337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885080" y="0"/>
            <a:ext cx="1258920" cy="7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835280" y="3960720"/>
          <a:ext cx="2538360" cy="2781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960720"/>
                    <a:ext cx="2538360" cy="2781360"/>
                  </a:xfrm>
                  <a:prstGeom prst="rect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124000" y="5805360"/>
            <a:ext cx="216072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86320" y="3306600"/>
            <a:ext cx="1800360" cy="2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588000" y="4221000"/>
            <a:ext cx="2737080" cy="1513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15080" y="450864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県立新磯高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大河原先生の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実践・論文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13:44:13Z</dcterms:created>
  <dc:creator>五十嵐誠</dc:creator>
  <dc:description/>
  <cp:keywords/>
  <dc:language>en-US</dc:language>
  <cp:lastModifiedBy>五十嵐誠</cp:lastModifiedBy>
  <cp:lastPrinted>2004-03-24T15:00:00Z</cp:lastPrinted>
  <dcterms:modified xsi:type="dcterms:W3CDTF">2005-09-24T12:58:01Z</dcterms:modified>
  <cp:revision>48</cp:revision>
  <dc:subject/>
  <dc:title>スライド 1</dc:title>
</cp:coreProperties>
</file>